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5.jpeg" ContentType="image/jpeg"/>
  <Override PartName="/ppt/media/image4.jpeg" ContentType="image/jpeg"/>
  <Override PartName="/ppt/media/elephant.wav" ContentType="audio/x-wav"/>
  <Override PartName="/ppt/media/image2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catgrowl.wav" ContentType="audio/x-wav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chomp.wav" ContentType="audio/x-wav"/>
  <Override PartName="/ppt/media/image1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buzz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120A-F609-40E8-AA96-43C54151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A12-B82E-4A28-8ED7-88FBDBDF5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3C2A-813F-47F7-82C4-EFFF786609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6BA-0DEA-41E3-B680-D4C714498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DD9-B397-4FE2-8CE8-B9D7BFC6D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14A-4826-4984-A413-6D3C49136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394F-BC3C-4929-8992-5C9AAAA46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97A-009D-4DE1-B335-BB90C338DF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252-FAC4-44F4-A339-1D4F874E3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9EB-939E-468D-9978-219593C0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CCC-3089-4DE8-BC6A-EA141756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259-86CF-406D-9900-7BDC0D59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FF7-4BFB-4F86-B837-F2E0D296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75A-9075-404C-9D6A-7EF02AB1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F0A9-E6D8-4A8F-A0F3-C0F35F2E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24A-AF11-40D2-92D9-E107B0C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03F8-01F2-468E-ADAF-60FDBDD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DEF6-FB2F-49BC-9C42-5D2F1CB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AED-2499-4ADC-A574-EA64BED7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305-231A-4538-8E90-74E8A38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56FD-1744-478F-A72C-44828EB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B94C-FF78-4CE5-B8F5-9C299C1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EC7B-2525-41F2-956C-77C46D5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54CA-604A-4EAC-8ADA-7F2F4BD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727D-BA06-4F20-A90F-67289659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0BBE-3F35-4A3E-AF1F-6C3799FC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181A-30E6-41B1-9F39-15DE2045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705-3BF7-4B56-B006-8D247D1A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BF1-98BF-422B-9CD2-80DAF2E1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3A0-A881-494D-BF34-CED6D7C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F35-9175-47E7-9DB1-5FC67F7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C10-73FF-4ECB-B362-FEDD1F81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DEF-4F4F-45D5-8093-BF602F2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CA5-9C5D-4EEE-B4C2-43A4B8C633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FBEA-CED2-4C8D-9CF5-CB54A7212E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buzzer.wav"/><Relationship Id="rId9" Type="http://schemas.openxmlformats.org/officeDocument/2006/relationships/audio" Target="../media/buzzer.wav"/><Relationship Id="rId10" Type="http://schemas.openxmlformats.org/officeDocument/2006/relationships/audio" Target="../media/buzzer.wav"/><Relationship Id="rId11" Type="http://schemas.openxmlformats.org/officeDocument/2006/relationships/audio" Target="../media/buzzer.wav"/><Relationship Id="rId12" Type="http://schemas.openxmlformats.org/officeDocument/2006/relationships/audio" Target="../media/buzzer.wav"/><Relationship Id="rId13" Type="http://schemas.openxmlformats.org/officeDocument/2006/relationships/audio" Target="../media/buzzer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tgrow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elephant.wav"/><Relationship Id="rId5" Type="http://schemas.openxmlformats.org/officeDocument/2006/relationships/audio" Target="../media/elephan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2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shrimp.jpg"/>
          <p:cNvPicPr/>
          <p:nvPr/>
        </p:nvPicPr>
        <p:blipFill>
          <a:blip r:embed="rId1"/>
          <a:stretch/>
        </p:blipFill>
        <p:spPr>
          <a:xfrm>
            <a:off x="6400800" y="541008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steak.jpg"/>
          <p:cNvPicPr/>
          <p:nvPr/>
        </p:nvPicPr>
        <p:blipFill>
          <a:blip r:embed="rId2"/>
          <a:stretch/>
        </p:blipFill>
        <p:spPr>
          <a:xfrm>
            <a:off x="5410080" y="4267080"/>
            <a:ext cx="1330560" cy="10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ribs.jpg"/>
          <p:cNvPicPr/>
          <p:nvPr/>
        </p:nvPicPr>
        <p:blipFill>
          <a:blip r:embed="rId3"/>
          <a:stretch/>
        </p:blipFill>
        <p:spPr>
          <a:xfrm>
            <a:off x="1380960" y="5562720"/>
            <a:ext cx="1381320" cy="99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subjec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cken wing, pork rib, slice of pepperoni pizza, hotdog, hamburger, steak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ied shrimp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sit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ouched on Ruth’s p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3" descr="vegetarian.jpg"/>
          <p:cNvPicPr/>
          <p:nvPr/>
        </p:nvPicPr>
        <p:blipFill>
          <a:blip r:embed="rId4"/>
          <a:stretch/>
        </p:blipFill>
        <p:spPr>
          <a:xfrm>
            <a:off x="3733920" y="4038480"/>
            <a:ext cx="1536480" cy="281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wings.jpg"/>
          <p:cNvPicPr/>
          <p:nvPr/>
        </p:nvPicPr>
        <p:blipFill>
          <a:blip r:embed="rId5"/>
          <a:stretch/>
        </p:blipFill>
        <p:spPr>
          <a:xfrm>
            <a:off x="441360" y="41911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pizza.jpg"/>
          <p:cNvPicPr/>
          <p:nvPr/>
        </p:nvPicPr>
        <p:blipFill>
          <a:blip r:embed="rId6"/>
          <a:stretch/>
        </p:blipFill>
        <p:spPr>
          <a:xfrm>
            <a:off x="2286000" y="4343400"/>
            <a:ext cx="1238400" cy="88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otdog.jpg"/>
          <p:cNvPicPr/>
          <p:nvPr/>
        </p:nvPicPr>
        <p:blipFill>
          <a:blip r:embed="rId7"/>
          <a:stretch/>
        </p:blipFill>
        <p:spPr>
          <a:xfrm>
            <a:off x="7315200" y="426708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2"/>
          <p:cNvSpPr/>
          <p:nvPr/>
        </p:nvSpPr>
        <p:spPr>
          <a:xfrm>
            <a:off x="304920" y="4267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1371600" y="56386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2209680" y="4343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7238880" y="4267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334120" y="43434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6324480" y="5486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ular Callout 4"/>
          <p:cNvSpPr/>
          <p:nvPr/>
        </p:nvSpPr>
        <p:spPr>
          <a:xfrm>
            <a:off x="5867280" y="4343400"/>
            <a:ext cx="2438640" cy="1447920"/>
          </a:xfrm>
          <a:prstGeom prst="wedgeRoundRectCallout">
            <a:avLst>
              <a:gd name="adj1" fmla="val -100300"/>
              <a:gd name="adj2" fmla="val -41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egetari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 wish 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she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37"/>
          <p:cNvSpPr/>
          <p:nvPr/>
        </p:nvSpPr>
        <p:spPr>
          <a:xfrm>
            <a:off x="1143000" y="243828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boss but also h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mploy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wis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ift would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twohands.jpg"/>
          <p:cNvPicPr/>
          <p:nvPr/>
        </p:nvPicPr>
        <p:blipFill>
          <a:blip r:embed="rId1"/>
          <a:stretch/>
        </p:blipFill>
        <p:spPr>
          <a:xfrm>
            <a:off x="6189840" y="3429000"/>
            <a:ext cx="1906560" cy="3276720"/>
          </a:xfrm>
          <a:prstGeom prst="rect">
            <a:avLst/>
          </a:prstGeom>
          <a:ln w="0">
            <a:noFill/>
          </a:ln>
        </p:spPr>
      </p:pic>
      <p:sp>
        <p:nvSpPr>
          <p:cNvPr id="184" name="Rounded Rectangular Callout 6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s, 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os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9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l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subjects, so t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employ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xt to the verb, th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761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302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263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594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worldgirl.jpg"/>
          <p:cNvPicPr/>
          <p:nvPr/>
        </p:nvPicPr>
        <p:blipFill>
          <a:blip r:embed="rId1"/>
          <a:stretch/>
        </p:blipFill>
        <p:spPr>
          <a:xfrm>
            <a:off x="6781680" y="76320"/>
            <a:ext cx="2251080" cy="304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286000"/>
          </a:xfrm>
          <a:prstGeom prst="wedgeRoundRectCallout">
            <a:avLst>
              <a:gd name="adj1" fmla="val 124740"/>
              <a:gd name="adj2" fmla="val -30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295280" y="3276720"/>
            <a:ext cx="655344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irrel as well as the pigeons keep an eye on Sammy, the sneaky c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159984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gether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57440" y="1599840"/>
            <a:ext cx="3048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Picture 12" descr="squirrel.jpg"/>
          <p:cNvPicPr/>
          <p:nvPr/>
        </p:nvPicPr>
        <p:blipFill>
          <a:blip r:embed="rId1"/>
          <a:stretch/>
        </p:blipFill>
        <p:spPr>
          <a:xfrm>
            <a:off x="457200" y="480060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Rounded Rectangular Callout 13"/>
          <p:cNvSpPr/>
          <p:nvPr/>
        </p:nvSpPr>
        <p:spPr>
          <a:xfrm>
            <a:off x="2209680" y="5334120"/>
            <a:ext cx="1371600" cy="1066680"/>
          </a:xfrm>
          <a:prstGeom prst="wedgeRoundRectCallout">
            <a:avLst>
              <a:gd name="adj1" fmla="val -84310"/>
              <a:gd name="adj2" fmla="val -3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point.jpg"/>
          <p:cNvPicPr/>
          <p:nvPr/>
        </p:nvPicPr>
        <p:blipFill>
          <a:blip r:embed="rId2"/>
          <a:stretch/>
        </p:blipFill>
        <p:spPr>
          <a:xfrm>
            <a:off x="8005680" y="2666880"/>
            <a:ext cx="113832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" descr=""/>
          <p:cNvPicPr/>
          <p:nvPr/>
        </p:nvPicPr>
        <p:blipFill>
          <a:blip r:embed="rId3"/>
          <a:stretch/>
        </p:blipFill>
        <p:spPr>
          <a:xfrm>
            <a:off x="1298520" y="3279600"/>
            <a:ext cx="6607080" cy="129240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3" descr=""/>
          <p:cNvPicPr/>
          <p:nvPr/>
        </p:nvPicPr>
        <p:blipFill>
          <a:blip r:embed="rId4"/>
          <a:stretch/>
        </p:blipFill>
        <p:spPr>
          <a:xfrm>
            <a:off x="1298520" y="3279600"/>
            <a:ext cx="6553080" cy="1292400"/>
          </a:xfrm>
          <a:prstGeom prst="rect">
            <a:avLst/>
          </a:prstGeom>
          <a:ln w="0">
            <a:noFill/>
          </a:ln>
        </p:spPr>
      </p:pic>
      <p:sp>
        <p:nvSpPr>
          <p:cNvPr id="200" name="Rounded Rectangular Callout 6"/>
          <p:cNvSpPr/>
          <p:nvPr/>
        </p:nvSpPr>
        <p:spPr>
          <a:xfrm>
            <a:off x="4495680" y="5105520"/>
            <a:ext cx="3353040" cy="1523880"/>
          </a:xfrm>
          <a:prstGeom prst="wedgeRoundRectCallout">
            <a:avLst>
              <a:gd name="adj1" fmla="val 54384"/>
              <a:gd name="adj2" fmla="val -11731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o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but it is completel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1" descr="okay.jpg"/>
          <p:cNvPicPr/>
          <p:nvPr/>
        </p:nvPicPr>
        <p:blipFill>
          <a:blip r:embed="rId1"/>
          <a:stretch/>
        </p:blipFill>
        <p:spPr>
          <a:xfrm>
            <a:off x="3352680" y="3124080"/>
            <a:ext cx="2122560" cy="37339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0969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ware inverted word orde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15238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onions you need for the chili. In the refrigerator is the jalapeño peppers you might want to ad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ounded Rectangular Callout 8"/>
          <p:cNvSpPr/>
          <p:nvPr/>
        </p:nvSpPr>
        <p:spPr>
          <a:xfrm>
            <a:off x="5791320" y="3962520"/>
            <a:ext cx="2971800" cy="2057400"/>
          </a:xfrm>
          <a:prstGeom prst="wedgeRoundRectCallout">
            <a:avLst>
              <a:gd name="adj1" fmla="val -83041"/>
              <a:gd name="adj2" fmla="val -3373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throug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repositional phr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ounded Rectangular Callout 9"/>
          <p:cNvSpPr/>
          <p:nvPr/>
        </p:nvSpPr>
        <p:spPr>
          <a:xfrm>
            <a:off x="304920" y="4114800"/>
            <a:ext cx="2209680" cy="1828800"/>
          </a:xfrm>
          <a:prstGeom prst="wedgeRoundRectCallout">
            <a:avLst>
              <a:gd name="adj1" fmla="val 86490"/>
              <a:gd name="adj2" fmla="val -3477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Rectangle 4" descr=""/>
          <p:cNvPicPr/>
          <p:nvPr/>
        </p:nvPicPr>
        <p:blipFill>
          <a:blip r:embed="rId2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4" descr=""/>
          <p:cNvPicPr/>
          <p:nvPr/>
        </p:nvPicPr>
        <p:blipFill>
          <a:blip r:embed="rId3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7" descr="urbangirl.jpg"/>
          <p:cNvPicPr/>
          <p:nvPr/>
        </p:nvPicPr>
        <p:blipFill>
          <a:blip r:embed="rId1"/>
          <a:stretch/>
        </p:blipFill>
        <p:spPr>
          <a:xfrm>
            <a:off x="6248520" y="3581280"/>
            <a:ext cx="1744560" cy="31244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46777"/>
              <a:gd name="adj2" fmla="val -3466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is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have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do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are the books that Thomas and Darlen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is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doze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have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are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love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dunno.jpg"/>
          <p:cNvPicPr/>
          <p:nvPr/>
        </p:nvPicPr>
        <p:blipFill>
          <a:blip r:embed="rId1"/>
          <a:stretch/>
        </p:blipFill>
        <p:spPr>
          <a:xfrm>
            <a:off x="2209680" y="2133720"/>
            <a:ext cx="4392720" cy="4425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bject-Verb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209680"/>
            <a:ext cx="2286000" cy="1905120"/>
          </a:xfrm>
          <a:prstGeom prst="wedgeRoundRectCallout">
            <a:avLst>
              <a:gd name="adj1" fmla="val 130208"/>
              <a:gd name="adj2" fmla="val 96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the end of the ver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553080" y="2209680"/>
            <a:ext cx="2286000" cy="1752840"/>
          </a:xfrm>
          <a:prstGeom prst="wedgeRoundRectCallout">
            <a:avLst>
              <a:gd name="adj1" fmla="val -116722"/>
              <a:gd name="adj2" fmla="val 1552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I lea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forward to the final exam; everyone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start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y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hover outside like giant predators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hope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s her famous brownies and peach pie th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380880" y="1523880"/>
            <a:ext cx="853452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sleep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out; Lorraine always finds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le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lee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s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discovered that the calories is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are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is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needs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are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refuses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throws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5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ubject-verb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squirrel02.jpg"/>
          <p:cNvPicPr/>
          <p:nvPr/>
        </p:nvPicPr>
        <p:blipFill>
          <a:blip r:embed="rId1"/>
          <a:stretch/>
        </p:blipFill>
        <p:spPr>
          <a:xfrm>
            <a:off x="3886200" y="4208400"/>
            <a:ext cx="1522440" cy="2421000"/>
          </a:xfrm>
          <a:prstGeom prst="rect">
            <a:avLst/>
          </a:prstGeom>
          <a:ln w="0">
            <a:noFill/>
          </a:ln>
        </p:spPr>
      </p:pic>
      <p:sp>
        <p:nvSpPr>
          <p:cNvPr id="258" name="Rounded Rectangular Callout 4"/>
          <p:cNvSpPr/>
          <p:nvPr/>
        </p:nvSpPr>
        <p:spPr>
          <a:xfrm>
            <a:off x="1981080" y="5029200"/>
            <a:ext cx="1371600" cy="1066680"/>
          </a:xfrm>
          <a:prstGeom prst="wedgeRoundRectCallout">
            <a:avLst>
              <a:gd name="adj1" fmla="val 90134"/>
              <a:gd name="adj2" fmla="val -5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cat.jpg"/>
          <p:cNvPicPr/>
          <p:nvPr/>
        </p:nvPicPr>
        <p:blipFill>
          <a:blip r:embed="rId2"/>
          <a:stretch/>
        </p:blipFill>
        <p:spPr>
          <a:xfrm>
            <a:off x="5486400" y="4343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679" nodeType="afterEffect" fill="hold" presetClass="exit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68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gr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urbangirl.jpg"/>
          <p:cNvPicPr/>
          <p:nvPr/>
        </p:nvPicPr>
        <p:blipFill>
          <a:blip r:embed="rId1"/>
          <a:stretch/>
        </p:blipFill>
        <p:spPr>
          <a:xfrm>
            <a:off x="5638680" y="838080"/>
            <a:ext cx="27241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609480" y="2590920"/>
            <a:ext cx="3353040" cy="3504960"/>
          </a:xfrm>
          <a:prstGeom prst="wedgeRoundRectCallout">
            <a:avLst>
              <a:gd name="adj1" fmla="val 121435"/>
              <a:gd name="adj2" fmla="val -4753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ubje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ubject-verb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provide good nutrition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satisfy the tongue bu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7" descr="point.jpg"/>
          <p:cNvPicPr/>
          <p:nvPr/>
        </p:nvPicPr>
        <p:blipFill>
          <a:blip r:embed="rId1"/>
          <a:stretch/>
        </p:blipFill>
        <p:spPr>
          <a:xfrm>
            <a:off x="8077320" y="3886200"/>
            <a:ext cx="74448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18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disagreement happen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atisf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19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to be the plura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mpet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a pean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pea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2" descr="elephant.jpg"/>
          <p:cNvPicPr/>
          <p:nvPr/>
        </p:nvPicPr>
        <p:blipFill>
          <a:blip r:embed="rId1"/>
          <a:stretch/>
        </p:blipFill>
        <p:spPr>
          <a:xfrm>
            <a:off x="1143000" y="1676520"/>
            <a:ext cx="1909800" cy="240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elephant.jpg"/>
          <p:cNvPicPr/>
          <p:nvPr/>
        </p:nvPicPr>
        <p:blipFill>
          <a:blip r:embed="rId2"/>
          <a:stretch/>
        </p:blipFill>
        <p:spPr>
          <a:xfrm>
            <a:off x="533520" y="4495680"/>
            <a:ext cx="1528560" cy="1922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elephant.jpg"/>
          <p:cNvPicPr/>
          <p:nvPr/>
        </p:nvPicPr>
        <p:blipFill>
          <a:blip r:embed="rId3"/>
          <a:stretch/>
        </p:blipFill>
        <p:spPr>
          <a:xfrm>
            <a:off x="2133720" y="4495680"/>
            <a:ext cx="152856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4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lookat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05120" cy="4876920"/>
          </a:xfrm>
          <a:prstGeom prst="rect">
            <a:avLst/>
          </a:prstGeom>
          <a:ln w="0">
            <a:noFill/>
          </a:ln>
        </p:spPr>
      </p:pic>
      <p:sp>
        <p:nvSpPr>
          <p:cNvPr id="154" name="Rounded Rectangular Callout 2"/>
          <p:cNvSpPr/>
          <p:nvPr/>
        </p:nvSpPr>
        <p:spPr>
          <a:xfrm>
            <a:off x="533520" y="3657600"/>
            <a:ext cx="3581280" cy="2438280"/>
          </a:xfrm>
          <a:prstGeom prst="wedgeRoundRectCallout">
            <a:avLst>
              <a:gd name="adj1" fmla="val 117833"/>
              <a:gd name="adj2" fmla="val -576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end in the suffix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d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icke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po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ri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3" descr="strut.jpg"/>
          <p:cNvPicPr/>
          <p:nvPr/>
        </p:nvPicPr>
        <p:blipFill>
          <a:blip r:embed="rId1"/>
          <a:stretch/>
        </p:blipFill>
        <p:spPr>
          <a:xfrm>
            <a:off x="1752480" y="3513240"/>
            <a:ext cx="1143000" cy="334476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3886200" y="4495680"/>
            <a:ext cx="3657600" cy="1905120"/>
          </a:xfrm>
          <a:prstGeom prst="wedgeRoundRectCallout">
            <a:avLst>
              <a:gd name="adj1" fmla="val -92282"/>
              <a:gd name="adj2" fmla="val -7188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’s n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l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931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7"/>
          <p:cNvSpPr/>
          <p:nvPr/>
        </p:nvSpPr>
        <p:spPr>
          <a:xfrm>
            <a:off x="685800" y="289548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wing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k rib si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3" descr="leaning.jpg"/>
          <p:cNvPicPr/>
          <p:nvPr/>
        </p:nvPicPr>
        <p:blipFill>
          <a:blip r:embed="rId1"/>
          <a:stretch/>
        </p:blipFill>
        <p:spPr>
          <a:xfrm>
            <a:off x="1219320" y="3825720"/>
            <a:ext cx="1143000" cy="303228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ular Callout 4"/>
          <p:cNvSpPr/>
          <p:nvPr/>
        </p:nvSpPr>
        <p:spPr>
          <a:xfrm>
            <a:off x="5257800" y="4267080"/>
            <a:ext cx="3200400" cy="1905120"/>
          </a:xfrm>
          <a:prstGeom prst="wedgeRoundRectCallout">
            <a:avLst>
              <a:gd name="adj1" fmla="val -148763"/>
              <a:gd name="adj2" fmla="val -4468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2 by Robin L. Simmons. All Rights Reserved.</dc:description>
  <cp:keywords>subjects verbs subject-verb agreement grammar Grammar Bytes! Robin L. Simmons</cp:keywords>
  <dc:language>en-US</dc:language>
  <cp:lastModifiedBy>eces7</cp:lastModifiedBy>
  <dcterms:modified xsi:type="dcterms:W3CDTF">2012-08-23T15:50:57Z</dcterms:modified>
  <cp:revision>353</cp:revision>
  <dc:subject/>
  <dc:title>Subject-Verb Agreement</dc:title>
</cp:coreProperties>
</file>